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880-2D05-46DB-86E6-E311147E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5FF-6E7C-4C10-86C5-63FCC456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7F31-F4F5-4E9D-963D-15BA139D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9C8-D3D6-4376-B205-C12FCC2E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4171-704F-4C50-B7B1-D1D1803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7DE-513F-407D-9B76-6E690BEB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782C-6C3E-43E6-8FE6-9208D3A5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636-DCA0-4B66-9905-66F2055C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61B-5024-45CA-8A86-7BF6F81D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349-A57E-4215-88D0-CBEBD97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DDB-78C1-4970-9350-E4DAA67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FA7-6383-4146-92FC-86A50C5F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58DB-E20F-4A42-8FCD-D0A1A7747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good.jpg"/>
          <p:cNvPicPr/>
          <p:nvPr/>
        </p:nvPicPr>
        <p:blipFill>
          <a:blip r:embed="rId1"/>
          <a:stretch/>
        </p:blipFill>
        <p:spPr>
          <a:xfrm>
            <a:off x="1592280" y="0"/>
            <a:ext cx="59594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609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ASSEMBL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8001000" y="76320"/>
            <a:ext cx="609480" cy="6781680"/>
            <a:chOff x="8001000" y="76320"/>
            <a:chExt cx="609480" cy="6781680"/>
          </a:xfrm>
        </p:grpSpPr>
        <p:sp>
          <p:nvSpPr>
            <p:cNvPr id="44" name="Title 1"/>
            <p:cNvSpPr/>
            <p:nvPr/>
          </p:nvSpPr>
          <p:spPr>
            <a:xfrm>
              <a:off x="8001000" y="76320"/>
              <a:ext cx="6094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DADA 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itle 1"/>
            <p:cNvSpPr/>
            <p:nvPr/>
          </p:nvSpPr>
          <p:spPr>
            <a:xfrm>
              <a:off x="8001000" y="2438280"/>
              <a:ext cx="60948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3100" spc="-1" strike="noStrike">
                  <a:solidFill>
                    <a:srgbClr val="ffffff"/>
                  </a:solidFill>
                  <a:latin typeface="Verdana"/>
                </a:rPr>
                <a:t>TECHNIQUE</a:t>
              </a:r>
              <a:r>
                <a:rPr b="0" lang="en-US" sz="37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itle 1"/>
          <p:cNvSpPr/>
          <p:nvPr/>
        </p:nvSpPr>
        <p:spPr>
          <a:xfrm>
            <a:off x="7620120" y="1905120"/>
            <a:ext cx="1447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ATHANIEL BOOM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angel.jpg"/>
          <p:cNvPicPr/>
          <p:nvPr/>
        </p:nvPicPr>
        <p:blipFill>
          <a:blip r:embed="rId1"/>
          <a:stretch/>
        </p:blipFill>
        <p:spPr>
          <a:xfrm>
            <a:off x="896760" y="0"/>
            <a:ext cx="7350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LLAGE IS SO </a:t>
            </a:r>
            <a:r>
              <a:rPr b="0" i="1" lang="en-US" sz="4400" spc="-1" strike="noStrike">
                <a:solidFill>
                  <a:srgbClr val="ffffff"/>
                </a:solidFill>
                <a:latin typeface="Verdana"/>
              </a:rPr>
              <a:t>PASS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914400" y="586728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ASSEMBLAGE MERGES SCULPTURE </a:t>
            </a:r>
            <a:r>
              <a:rPr b="0" i="1" lang="en-US" sz="31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 COLLAGE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Duchamp_LargeGlass.jpg"/>
          <p:cNvPicPr/>
          <p:nvPr/>
        </p:nvPicPr>
        <p:blipFill>
          <a:blip r:embed="rId1"/>
          <a:stretch/>
        </p:blipFill>
        <p:spPr>
          <a:xfrm>
            <a:off x="2743200" y="58680"/>
            <a:ext cx="3517920" cy="542772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838080" y="5562720"/>
            <a:ext cx="7543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ADA ARTISTS USED FOUND OBJECTS TO LAMPOON SOCIETY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6248520" y="1523880"/>
            <a:ext cx="2895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Here’s a Duchamp.  He used wire, glass and dust on this o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8380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Verdana"/>
              </a:rPr>
              <a:t>TAKE ADVANTAGE OF THE THIRD DIMENSION!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arms.jpg"/>
          <p:cNvPicPr/>
          <p:nvPr/>
        </p:nvPicPr>
        <p:blipFill>
          <a:blip r:embed="rId1"/>
          <a:stretch/>
        </p:blipFill>
        <p:spPr>
          <a:xfrm>
            <a:off x="457200" y="137160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exd20.jpg"/>
          <p:cNvPicPr/>
          <p:nvPr/>
        </p:nvPicPr>
        <p:blipFill>
          <a:blip r:embed="rId2"/>
          <a:stretch/>
        </p:blipFill>
        <p:spPr>
          <a:xfrm>
            <a:off x="5153040" y="1371600"/>
            <a:ext cx="34574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23:12:34Z</dcterms:created>
  <dc:creator>%USERNAME%</dc:creator>
  <dc:description/>
  <dc:language>en-US</dc:language>
  <cp:lastModifiedBy>profile</cp:lastModifiedBy>
  <dcterms:modified xsi:type="dcterms:W3CDTF">2010-08-11T00:11:51Z</dcterms:modified>
  <cp:revision>23</cp:revision>
  <dc:subject/>
  <dc:title>Assemblage: A Dada Technique</dc:title>
</cp:coreProperties>
</file>